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A751-DF70-4B78-96B3-6FF4AE7D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C91E-F397-46D6-A995-08D332CDCB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425-D242-46C2-BB71-871EE5B52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A37-D911-42A6-9E44-C1FB4450C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4CB-309F-4EA4-B803-144680556B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B21-9DBD-4D1F-8D56-ADEBBE6F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56C-F0C0-4390-AF21-06EF584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694-CB5D-43B0-993A-32607A8C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CDD-A115-4099-8D7C-1387E396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A66-2142-4003-84C4-0419E0C9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736-16F8-4A9C-B806-F53905F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597-9C58-48F0-903E-95CE7CD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FDF-4951-4ECC-8E88-094EAB3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C35-8F9D-459A-B64D-B45323B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B75-5B94-488D-8D89-A0CC735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765-B4D4-4A5A-B564-CF4E41D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025-7C80-44FE-9B0A-0A2519C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9E4-8D40-4346-B398-E64F0AC48713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orld History 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th Gr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rvey Cours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historic – Medieval (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entury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ught thematical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Religion, Government, Conquest, Geography, Society, Economics and Engineer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se Boo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ld History: The Human Journey by Holt. Online Edi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2451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s geography shaped histo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societies organiz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have ancient religions had such a lasting impac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actors encourage economic and technological develop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ve ancient civilizations impacted our own live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Skil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eful reading and note-tak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ing and problem-sol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ying historical and geographical princi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p-reading and analyzing geographical docu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an argu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itical thinking and reflective reason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ing &amp; Assessm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69000"/>
          </a:bodyPr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ding poli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icipation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pter Quizzes/Unit Tests 10-15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signments (Essays/Presentations) 20-25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nal Semester Exam 2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ily writing and reading assignments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pen-note quizz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oup and individual projects and present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osed-note multiple-choice and essay exam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eld Trip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oman Visi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sibly a trip to th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s of Parliament T.B.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ail: hknight@acs-schools.c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nrietta Kn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1:28Z</dcterms:created>
  <dc:creator/>
  <dc:description/>
  <dc:language>en-US</dc:language>
  <cp:lastModifiedBy>Microsoft Office User</cp:lastModifiedBy>
  <dcterms:modified xsi:type="dcterms:W3CDTF">2011-09-22T15:12:38Z</dcterms:modified>
  <cp:revision>21</cp:revision>
  <dc:subject/>
  <dc:title>IB History</dc:title>
</cp:coreProperties>
</file>